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5C0-E8D7-4D8B-85F1-BB3A2472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F0F-1A6C-4E38-ABDD-2A8E1474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8DF-EAF4-4600-AC71-5E7CA1F7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601-A6AC-4098-B7BE-AC4BAD7F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0F6-9601-439A-A906-7DB37D9E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BB1-541A-4623-9283-E5CD0946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470-390B-4BB8-AC7B-3D14C5EB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2823-2309-4920-9509-E7D21CA6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496-1536-4605-A828-DC2EB399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DF6-B63C-4B9B-939E-5D6F9F25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693-B442-4DFB-BC3C-6280738D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298-33C7-4F48-9233-370B46B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CE6E-848B-48C4-BB1A-74B194AE8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duplace.com/kids/hme/k_5/graphorg/index.html" TargetMode="External"/><Relationship Id="rId2" Type="http://schemas.openxmlformats.org/officeDocument/2006/relationships/hyperlink" Target="http://www.readwritethink.org/materials/storymap/" TargetMode="External"/><Relationship Id="rId3" Type="http://schemas.openxmlformats.org/officeDocument/2006/relationships/hyperlink" Target="http://classroom.jc-schools.net/read/Souvenirs.htm" TargetMode="External"/><Relationship Id="rId4" Type="http://schemas.openxmlformats.org/officeDocument/2006/relationships/hyperlink" Target="http://home.att.net/~teaching/langarts.htm" TargetMode="External"/><Relationship Id="rId5" Type="http://schemas.openxmlformats.org/officeDocument/2006/relationships/hyperlink" Target="http://home.att.net/~teaching/langarts.htm" TargetMode="Externa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Tommy Galle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Justin Hend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Erin Mor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eigh Da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1219320"/>
            <a:ext cx="7010280" cy="20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Nonlinguistic Representation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ime-Sequence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events in a specific chronological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4495680"/>
            <a:ext cx="7467480" cy="1371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2400" y="1219320"/>
            <a:ext cx="457200" cy="3504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4800600"/>
            <a:ext cx="8915400" cy="2057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1371600"/>
            <a:ext cx="1066680" cy="3809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7394600">
            <a:off x="1189440" y="23911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394600">
            <a:off x="2332440" y="23911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7394600">
            <a:off x="3323160" y="23911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7394600">
            <a:off x="4389840" y="23911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7394600">
            <a:off x="5456880" y="239148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Ev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rocess/Cause-Effect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information into a casual network leading to a specific outcome or into a sequence of steps leading to a specific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2940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pisode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information about specific events including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a setting (time and pl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specific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specific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specific sequence of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 particular cause and effect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76720" y="3124080"/>
            <a:ext cx="175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omic Sans MS"/>
              </a:rPr>
              <a:t>EPISO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27672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CA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20040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5562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5638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6386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2193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83808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DU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2860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eneralization/Principal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information into general statements with supporting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00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0" y="9907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971800"/>
            <a:ext cx="2590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411480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    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5105520"/>
            <a:ext cx="266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cept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most general of all patter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ganize information around a word or phrase that represents entire classes or categories of persons, places things, and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52680" y="304812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ONCEP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886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CHARACTER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1911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CHARACTER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752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CHARACTER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6483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410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0958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914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952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57150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4952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search on Lear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18% are auditory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2% are visual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5% are tactile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5% are kinesthetic lear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ich means that greater than 50% of learners are nonlingu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ke Phys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oncrete representation of the knowledge that is being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uvenirs/to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D models – dio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le folder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raw Pictures and Pictograph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ymbolic pictures that represent the knowledge that has been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lip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llustrate vocabu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ngage in Kinesthetic Activ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hysical movement associated with knowledge generates a mental image of the knowledge in the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nger 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ole playing/char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lkonin bo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and/body m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205740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QUESTION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rs Galore!!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eduplace.com/kids/hme/k_5/graphorg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ve organiz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readwritethink.org/materials/storyma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venirs 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classroom.jc-schools.net/read/Souvenir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zing stuff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/>
              </a:rPr>
              <a:t>home.att.net/~teaching/langart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Heidorn, P.Bryan, “Image Retrieval as Linguistic and Nonlinguistic Visual Model Matching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man"/>
                <a:ea typeface="Times New Roman"/>
              </a:rPr>
              <a:t>Library Trends</a:t>
            </a: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, Vol. 48 n2, pages 303-325, Fall 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Leonard, Laurence B. “Language Impairment in Children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man"/>
                <a:ea typeface="Times New Roman"/>
              </a:rPr>
              <a:t>Merrill-Palmer Quarterly</a:t>
            </a: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, Vol. 25 n3, page 205-232, July 197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Marzano, R. J., Pickering, D. J., &amp; Pollock, J. E. (2001)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man"/>
                <a:ea typeface="Times New Roman"/>
              </a:rPr>
              <a:t>Classroom instruction that works: Research-based strategies for increasing student achievement</a:t>
            </a:r>
            <a:r>
              <a:rPr b="0" lang="en-US" sz="2400" spc="-1" strike="noStrike">
                <a:solidFill>
                  <a:srgbClr val="0000ff"/>
                </a:solidFill>
                <a:latin typeface="Bookman"/>
                <a:ea typeface="Times New Roman"/>
              </a:rPr>
              <a:t>.  Alexandria, VA: Association for Supervision and Curriculum Develop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1" lang="en-US" sz="6500" spc="-1" strike="noStrike">
                <a:solidFill>
                  <a:srgbClr val="0000ff"/>
                </a:solidFill>
                <a:latin typeface="Comic Sans MS"/>
              </a:rPr>
              <a:t>Actions speak louder than words”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Brain Enrichment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ve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eedba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her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2211480"/>
            <a:ext cx="45720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QUESTIONS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is nonlinguistic represent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are the six patterns of nonlinguistic represent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How do we teach nonlinguistic representation to ou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is nonlinguistic represen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t is an imagery mode of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magery mode is expressed as mental pictures and physical sensations such as smell, taste, touch, kinesthetic association, and s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way to raise percentiles by 27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to Use Nonlinguistic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raphic organ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ke Phys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Generate Mental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raw Pictures and Picto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ngage in Kinesthetic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tterns of nonlinguistic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tiv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me-Sequenc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cess/Cause-Effect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22856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pisod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eneralization/Principl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cept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scriptive 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y can be used to represent facts about  specific persons, places, things, and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nformation does not need to be in any particular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175248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429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29528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4956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15238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57913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49528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F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01:41:15Z</dcterms:created>
  <dc:creator>Salisbury University Informat</dc:creator>
  <dc:description/>
  <dc:language>en-US</dc:language>
  <cp:lastModifiedBy>na</cp:lastModifiedBy>
  <dcterms:modified xsi:type="dcterms:W3CDTF">2006-06-22T01:25:45Z</dcterms:modified>
  <cp:revision>19</cp:revision>
  <dc:subject/>
  <dc:title>NONLINGUISTIC REPRESENTATIONS</dc:title>
</cp:coreProperties>
</file>